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D051-5C09-40AA-9423-575902B0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AE5-A13C-408D-9E21-1AAD4832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660-B396-45B8-85EE-DB9244A9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E7E-70BB-4A4F-9C12-8244E93F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FFBC-D191-4BF3-B840-7F00784A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268-B8E3-48DD-89FA-F63F3EE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CE0-1533-42FE-A402-D031819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A6A-8036-40F2-9890-C94F6ED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721F-66E2-4E28-9F2D-5ED4BD25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985C-A106-4E1F-BAF3-77FFFA46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2AB-C15F-4D0F-AAAC-9327D5C8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306-5933-4CF1-A46B-D7718B57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F27-6EAE-4CC3-A241-8F0314549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812520"/>
            <a:ext cx="8547120" cy="31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900" spc="-1" strike="noStrike">
                <a:solidFill>
                  <a:srgbClr val="ff33cc"/>
                </a:solidFill>
                <a:latin typeface="Arial"/>
              </a:rPr>
              <a:t>Chelsea’s cream</a:t>
            </a:r>
            <a:endParaRPr b="0" lang="en-US" sz="8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99ff"/>
                </a:solidFill>
                <a:latin typeface="Arial"/>
              </a:rPr>
              <a:t>Chelsea’s cream is your cream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